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7198C-49BE-45D8-9904-5BCB7D271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82A4F-86AA-45CF-B8F2-B6E53D8D5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E90EB-6E59-481E-ACA9-663D537E1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9C344-F509-4EAC-99DD-A5FF9F6DA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5F9206-2D80-4149-B777-BBB5CCFE6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A7B7E5-BFF4-4674-826E-2D4479CFE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EF8DDE-9305-4721-8CF2-EF1321EE7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08A21B-466C-4397-B883-42C16DF20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39D796-D2AD-4A59-9F6B-459D272BB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A3FE24-C952-4E54-9FD4-1787F8BC7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ABE02B-85A1-4309-8F2B-A3730E7F4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78A65-5FAD-47BE-B413-DFC63015F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C68765-0229-44A8-8A4D-5F37FEC21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CB96CB-1860-41B6-AE50-83B348921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25291B-8654-4192-8508-37C52BFED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8A05BA-22F8-4077-92F5-9284A8166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BBFDBE-0E32-4966-A47B-29C23ACAA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22ECB-C858-47CE-A29B-9E852A648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38309-906E-4918-858B-86E4CD654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BE8DE-B82B-4BE5-89DC-0E38E9C3D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F174C-2815-477F-9C5F-76F942896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478B6-A770-4806-8415-FD16EB149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DF753-D030-4313-BDA0-F8EFBEF1F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B2F3E-EE54-4379-B58B-AAA48170C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>
                <a:gd name="textAreaLeft" fmla="*/ 0 w 5143320"/>
                <a:gd name="textAreaRight" fmla="*/ 5143680 w 514332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>
                  <a:gd name="textAreaLeft" fmla="*/ 0 w 1581120"/>
                  <a:gd name="textAreaRight" fmla="*/ 1581480 w 1581120"/>
                  <a:gd name="textAreaTop" fmla="*/ 0 h 846000"/>
                  <a:gd name="textAreaBottom" fmla="*/ 846360 h 846000"/>
                </a:gdLst>
                <a:ahLst/>
                <a:rect l="textAreaLeft" t="textAreaTop" r="textAreaRight" b="textAreaBottom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>
                  <a:gd name="textAreaLeft" fmla="*/ 0 w 600120"/>
                  <a:gd name="textAreaRight" fmla="*/ 600480 w 60012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>
                  <a:gd name="textAreaLeft" fmla="*/ 0 w 246240"/>
                  <a:gd name="textAreaRight" fmla="*/ 246240 w 24624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>
                <a:gd name="textAreaLeft" fmla="*/ 0 w 6311880"/>
                <a:gd name="textAreaRight" fmla="*/ 6312240 w 631188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028CA-3FD5-43C2-8386-5B661CFEA7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55C99-3F43-41CE-AEFA-68207D88FBB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power-technology.com/projects/bushehr-nuclear/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http://www.appliedlanguage.com/flags_of_the_world/large_flag_of_iran.gif"/>
          <p:cNvPicPr/>
          <p:nvPr/>
        </p:nvPicPr>
        <p:blipFill>
          <a:blip r:embed="rId1"/>
          <a:stretch/>
        </p:blipFill>
        <p:spPr>
          <a:xfrm>
            <a:off x="0" y="-136440"/>
            <a:ext cx="9144000" cy="699444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Iran</a:t>
            </a:r>
            <a:endParaRPr b="0" lang="en-US" sz="7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71600" y="3873600"/>
            <a:ext cx="64008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chael Crou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Works Cited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 March 2010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"Iran."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 The World Fact Book: https://www.cia.gov/library/publications/the-world-factbook/geos/ir.html 22 March 2010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8 March 2010 "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New US-Russia nuclear deal 'soon' says Hillary Clinton ."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BC News: http://news.bbc.co.uk/2/hi/europe/8574838.stm (22 March 2010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1 March 2010 "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Ira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" Wikipedia: http://en.wikipedia.org/wiki/Iran (22 March 2010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5" descr="http://www.oldcarpet.com/images/iran_map_good_new.gif"/>
          <p:cNvPicPr/>
          <p:nvPr/>
        </p:nvPicPr>
        <p:blipFill>
          <a:blip r:embed="rId1"/>
          <a:stretch/>
        </p:blipFill>
        <p:spPr>
          <a:xfrm>
            <a:off x="3962520" y="0"/>
            <a:ext cx="5181480" cy="38862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-1676520" y="1371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The Land…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0" y="3809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ran is located in the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ddle Eas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borders the Gulf of Oman the Persian Gulf, and the  Capsian Se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ran is situated between Pakistan and Iraq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6" descr="http://ict-club.schoolnet.ir/lovevoice/iran/image/damavand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Land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2509560"/>
            <a:ext cx="8229600" cy="35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terrain in Iran is rugged and mountainous rim with a large central basi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also has small not connected deserts and plains along both coas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mate/Vegetatio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ran’s climate is Arid/ Semi-Arid in the cen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’s climate is tropical along the Caspian Se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Picture 5" descr="http://upload.wikimedia.org/wikipedia/commons/thumb/d/d9/Damavand3.jpg/150px-Damavand3.jpg"/>
          <p:cNvPicPr/>
          <p:nvPr/>
        </p:nvPicPr>
        <p:blipFill>
          <a:blip r:embed="rId1"/>
          <a:stretch/>
        </p:blipFill>
        <p:spPr>
          <a:xfrm>
            <a:off x="2743200" y="3429000"/>
            <a:ext cx="33847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5" descr="http://www.iran-press-service.com/ips/bm~pix/majles2~s600x60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Governmen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ran’s Government type is a Theocratic Republi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means they have a Judicial, Executive, and Legislative Branc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Legislative Branch is a unicameral assembl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Executive Branch consists of the President and his Cabine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5" descr="Bushehr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History and Current Event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ew US-Russia nuclear deal 'soon' says Hillary Clint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ran’s nuclear plant which is being built by Russia should be operational this summ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ran denies using nuclear technology for warhead production and claims to be using it strictly for peaceful energy produc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Economy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ran’s exports consist of: petroleum, chemical products, petrochemical products, fruits, nuts, and carpe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’s export partners are: China, Japan, India, South Korea, Turkey, and Ita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Picture 5" descr="http://www.farsinet.com/toman/images/iri_20000rf.jpg"/>
          <p:cNvPicPr/>
          <p:nvPr/>
        </p:nvPicPr>
        <p:blipFill>
          <a:blip r:embed="rId1"/>
          <a:stretch/>
        </p:blipFill>
        <p:spPr>
          <a:xfrm>
            <a:off x="1523880" y="4267080"/>
            <a:ext cx="609624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5" descr="http://www.opfblog.com/wp-content/uploads/2009/05/iran-culture-azadi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934320"/>
          </a:xfrm>
          <a:prstGeom prst="rect">
            <a:avLst/>
          </a:prstGeom>
          <a:ln w="0">
            <a:noFill/>
          </a:ln>
        </p:spPr>
      </p:pic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ultur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The official language of Iran is Persia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There are other lesser languages used such as Azeri and Kurdis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Even less popular languages include Arabic and Armenian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2" descr="Photo: Gilded dome in Ira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Places to Visi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Naghsh-e Jahan Square in Isfahan is a world heritage sit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shhad is home to the site of the Imam Reza Shrin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citadel of Persepolis is also a world heritage sit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7T16:28:03Z</dcterms:created>
  <dc:creator>michaelrcrouse</dc:creator>
  <dc:description/>
  <dc:language>en-US</dc:language>
  <cp:lastModifiedBy>michaelrcrouse</cp:lastModifiedBy>
  <dcterms:modified xsi:type="dcterms:W3CDTF">2010-03-22T16:42:00Z</dcterms:modified>
  <cp:revision>27</cp:revision>
  <dc:subject/>
  <dc:title>Iran</dc:title>
</cp:coreProperties>
</file>